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C82-914D-40D7-BB2D-A84DF206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FBF-D4F4-467C-BC65-DBA136D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643-114F-444B-A79C-BA846B70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BF5-D930-4FD7-9987-6AA686C7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DC2-4A80-48DD-B514-8B89762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9E5-089C-4D6B-A224-F5695F3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2AED-75BC-4B08-B796-6065B908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D9B-8CCE-46B3-8891-785FA985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A682-81C4-45EE-A414-ACAA0C3C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476B-2DF2-47D9-ACF8-FAB19AE9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2EE9-33C4-4E90-8350-E922895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1B2-64DA-4FBE-8AC5-D71F264B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1A64-5FBA-4476-880C-876BC528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9133-B441-4D4C-9C5A-869E7522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96D-8ECA-4F47-AC8F-2720D8F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15D-15A4-4195-8AC8-98CAEDEF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29E1-59C7-4D06-8F41-CF8CE810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382-7308-4790-928F-C7DA59CB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DC6-986A-4F58-8D25-2A2B62DE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B43-66B1-4849-8974-05B048B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FCC-D4FA-436E-8E7C-49BBCD7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393-3F6C-4F35-B92C-EE22B54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11A-C769-4DF6-92FD-5ED8BC5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411-9C9E-4580-8BD3-DAF4C726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00ff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o put your footer here go to View &gt;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6D2E-F36A-4FBF-ACC4-218C5865DEB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00ff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o put your footer here go to View &gt;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C2D5-9377-46A6-81B6-B0DCD30D1E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F7B-C7EE-49CF-A29B-CA3593B5652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Projec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Appraisal</a:t>
            </a:r>
            <a:endParaRPr b="1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Tahir Nade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CB51-C00D-4B88-9C87-28D91EB38F9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Good appraisal systems should ensure that: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777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s are within a implementers’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appropriate arrangements for very small pro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appropriate arrangements for dealing with novel, contentious or particularly risky pro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for project appraisal</a:t>
            </a:r>
            <a:br>
              <a:rPr sz="3200"/>
            </a:b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lanced develop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 inter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ing sectoral dem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E05A-5CCD-4C5A-80B3-4FBD236E439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F340-06FE-40C2-910F-7688D24FB25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Key issues in appraising projects</a:t>
            </a: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97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Need, targeting and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nts should provide detailed description of project, identifying local needs/ objectives it aims to meet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 and conn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re links between the project and other local programmes and projects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nsul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consultation determines priorities and secure community consent and ownershi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B861-F5AD-48E4-9431-247C0857804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Key issues in appraising projects</a:t>
            </a: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97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concerned with establishing whether there are different ways of achieving objecti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ensure all the necessary people and resources are in place to deliver proje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for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one of the key criteria against which projects are appraised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06E2-F7C1-4E83-93E8-AF84349F0F7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Key issues in appraising projects</a:t>
            </a: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aisal scrutinises the practical plans for implementation, asking whether staffing, timetable and implementers  are oka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isk and uncertain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should also be contingency plans in place to minimize the estimated ri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679-DAC2-456E-9270-3B0C2E70D34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Key issues in appraising projects</a:t>
            </a: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7921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orward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aisal should also consider mainstream links and implications in case the project funds ar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aisal should include an assessment of a pro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 environmental, social and economic impact, its positive and negative effect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035A-3704-435A-8A0C-5AABE96BC07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Checklist for project appraisal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137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s worth ask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e appraisals systematic and disciplined with a clear sequence of activities and operating r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an independent assessment of the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appraisal process culminate in clear recommendations that inform approval (or rejection) of the project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3A30-2385-4811-B590-607E2A2733D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Checklist (cont.)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08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pproval stage clearly sepa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ppraisal process well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ith key documents sign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howing ownership and agreement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llowing the appraisal documentation to act as basis for future management, monitoring and eval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appraisal system comply with relevant government guid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e right people involved and, if necessary, how can you widen invol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9E1F-6FF2-4301-9E70-649768E82B7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Feasibility Study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137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feasibility study may be undertaken during appraisal to establish the technical, economic and financial viability, environmental compliance and social acceptability of a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 of a feasibility stud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bjec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cy framework and detailed project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soundness of th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nistrative feasibility of th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F6F-5239-4DBF-97EF-307D2685B08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Feasibility Study </a:t>
            </a:r>
            <a:r>
              <a:rPr b="0" lang="en-GB" sz="39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ims (cont.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850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conomic and financial viability of the project propo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atus of demand for the project benefici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ations of customs and traditions of project benefactors and issues of compat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important policy and cross cutting issues (gender, environment, HIV/AI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2C8F-3E5B-40C4-9B12-643A69D8DAB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session will introduce dimensions of project appraisal,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of social acceptability/desirability, environmental friendlin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feasibility/ appropriaten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sensitiven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soundnes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be sustainable and most importantly financial viabi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6E19-9EC2-453C-85D8-C1A69DCA58D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  <a:ea typeface="Times New Roman"/>
              </a:rPr>
              <a:t>Practical Aspects 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content just described about appraisal, appraise your identified projects in terms of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onomic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anci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nmental Analysis,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900"/>
            </a:b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Appraisal Concept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ct of assessing something or some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Open Sans"/>
              </a:rPr>
              <a:t>assessment</a:t>
            </a: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, evaluation, estimation, judgement, rating, gauging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timated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B9FE-B039-46F7-AB0C-DF0F06DE008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Project </a:t>
            </a:r>
            <a:br>
              <a:rPr sz="3900"/>
            </a:b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Appraisal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ing a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ification of spending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a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9408-D0F1-4537-9E81-2AF3BDE721E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F250-B991-4C4D-A6AC-4424E1B3E73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Project Appraisal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497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ppraisal is the process of assessing and questioning proposals before resources are committ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means by which partnerships can choose the best projects to help them achieve what they want for their commun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appraisal is thus a technique of systematic analysis of projects with view to assisting in investment decision. (DR. Aeja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30F2-216C-4F89-83B9-09C46EB3283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Project Appraisal (cont.)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udits of operation of Single Project Budget schemes highlighted concerns about design and operation of appraisal systems, including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stic, inflexible syste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of independence and obje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of clear definition of the stages of appraisal and of responsibility for these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of documentary evidence after carrying out the apprai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F7D7-5836-42E5-A314-2BD7CA7E7C7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Project Appraisal (cont.)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281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udits/inspections specifically found problems like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appraisals which do not cover the necessary information or provide only a superficial analysis of th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ar problems in dealing with risks, options and value for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ppraisals which are considered too burdensome for smaller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shed apprais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FB80-2925-4907-BF36-ADFA8116538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What can a Project Appraisal deliver?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281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 consistent and objective in choos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sure their program benefits all sections of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documentation to meet financial and audi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aisal justifies spending money on a pro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aisal is an important decision making t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aisal lays the foundations for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15F-6CBF-4BEF-A042-D322C6E19B2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00"/>
                </a:solidFill>
                <a:latin typeface="Arial"/>
              </a:rPr>
              <a:t>Good appraisal systems should ensure that:</a:t>
            </a:r>
            <a:endParaRPr b="1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281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pplication, appraisal and approval functions are sep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 the necessary information is gathered for appraisal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ity issues are given prop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involved in appraisal have appropriate technical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realistic grounds for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2:30:38Z</dcterms:created>
  <dc:creator>Carlos Barahona</dc:creator>
  <dc:description/>
  <dc:language>en-US</dc:language>
  <cp:lastModifiedBy>SaaD</cp:lastModifiedBy>
  <cp:lastPrinted>2006-09-19T14:59:33Z</cp:lastPrinted>
  <dcterms:modified xsi:type="dcterms:W3CDTF">2018-04-19T05:08:05Z</dcterms:modified>
  <cp:revision>66</cp:revision>
  <dc:subject/>
  <dc:title>Slide 1</dc:title>
</cp:coreProperties>
</file>